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4BE-6393-48B0-8592-6DA2A571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93F-17F2-4F84-8F78-53133F8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1C1-FBF0-47AD-9C5A-B10207F7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297-EA42-4783-84C7-ABF7185C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E5A-6A09-4762-9C2D-E27D4C6F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D109-413C-4C6E-9DEC-C39A08C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F3D-BA9F-48A9-BC8A-47C2C060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3DCA-A783-487D-A7BA-5582266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B94-361A-4C3F-AF3A-02FABD8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6CE-FFEE-4D7A-90A5-8BF39B2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CA8-74A5-42CC-87B3-63BC203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D5F-5E60-4BEA-A3D7-5AC2F335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DB7-F632-4BD7-BA21-E9A4846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8FD5-765D-4D5C-9F68-7FFCEFE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DDB-0F8B-4F27-BFA5-B750E9EF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B31-77EA-43F6-8C8A-78EA3D74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325-2DF3-477C-A3B9-DBF02A38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17EC9-8D67-4452-B13F-FDF161E6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FE1BB-B4B2-4F7E-96DF-9B6213A1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53C80-F305-4A47-89E4-554952EE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32690-9D50-4A78-AAD4-BBFDA8AD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ED0C3-FD14-4957-97CE-2306E3C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E7F-8C56-4A6C-A4E8-DB47366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CD995-A63A-4408-83F3-DD76B12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A91B4-3F26-4E9C-8BF1-852975A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B1FB1-0BF3-4D43-B27E-0A9C0AB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45A56-8EF3-4A6A-AB1B-9733100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E937D-CC50-4AE3-B974-E445FE4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8E2E5-0593-4B5C-B23A-288D95DE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0D480-75D8-4FCC-99F7-750D38D0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0C9A-1BE8-4423-A435-44B4FDA1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DC14-738C-4669-8E77-4CEA9EDE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DA81-D94E-442F-B9E1-8870FB9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782-C0B1-423F-8E5D-765276DA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13CA-BEF4-4925-A076-C416B6C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63CD-6355-4D27-8872-A8401BFF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FBA82-BF7C-4C76-8F5F-6CCB5FA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19C2-C7E4-490D-8990-8E665DB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D629-9765-4F82-997D-3202F78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343E-1CDE-4EE6-8572-69F8D7B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6B48-B43D-4CBF-B48F-300D05B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C852-23D1-4BD8-B0FC-E1F3EF4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ADDD-2530-4926-9340-33688DF0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726CD-8DD8-4388-8979-90DEB7F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3C3-A06A-42FA-9C18-D066F1C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FE978-B6CD-48CB-8F9A-2706474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01B2A-3AA1-4FC2-AC81-2689633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504EB-9CB7-4627-9170-1BF49C5B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40803-61BB-4239-A16B-7254FC13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72C9F-859C-4042-A81C-3D59B26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6F46B-F149-4995-90D8-E2DD2B3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FAC6D-D640-43D8-B4A6-7AD1AD8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33BF5-5209-42BE-9339-5955A41E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2666B-CEB8-4387-ADF3-C5CE7E8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88F26-2BED-4A11-8B37-19A4848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77B-DFD4-4899-B0E7-3CEC866A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79180-3B27-41B3-A350-A59CB6C3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EDA61-55DD-4ADF-920C-8BC52B78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4FD1F-7D52-43E2-B7EF-E9E2F251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594A7-203C-4571-BDD3-36933C15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5FF16-1C37-412A-90C1-DA2FB5C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7CEFC-0582-43E4-84B7-D3A033EC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6A309-FEE7-45FD-A8F6-6875164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7FFB3-D091-4FF5-9F7E-FC39849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7CCF9-DD48-4744-850D-DF7954B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53321-B7A4-4345-A63E-563CE8F3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B1C-F645-40D7-BC2A-634B29E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1A0C6-195C-4720-888F-EDD6EEB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D5DC6-50F7-455C-85F7-6E416303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8C2C2-2B2E-4C13-BD66-6F6C81F8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13EC7-52F8-4FA9-A355-45328F9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8CD92-4B0B-4C34-8446-0C8BF2F5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7D098-8605-4385-A5AE-7DB2EA1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FD3E4-9F1C-44CC-AD4B-0493CB56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0E5ED-8555-4D03-A1CD-59A436F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968F6-050A-45A0-A8EC-687F68C3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4C7D3-FEDC-4CCB-A96E-5BECA3B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685-284A-49D6-83E6-2ADD443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A953C-1A8E-4172-8B2C-6E5DE50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1A557-9A19-4412-8B0B-6EB684F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D4ED7-F07D-4E14-B823-2535337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945A1-4DBF-4857-B081-953C7907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FB9D5-4B8C-43C1-A1F9-9F9EA31E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364-0C4A-41EB-BCFD-6FDC8CD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5AFF-D682-4FB5-808D-008370046A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B85-0D43-41E2-A610-F234A35E83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07CB-404B-46E3-90CC-45BF1A4ADC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5BF-BA34-43D6-8E88-BF548EC8E8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47CE-5689-4F20-B975-232E114096F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551E-4746-47C5-848B-0686B8F76F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A75-3BEE-431C-A1DF-4ABA8BCEEE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JECTIVES AND VERB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arts of Speech, Part 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JECTIVES ARE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ords that describe or provide more information about noun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ften precede a nou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WARE quanity adjectives like many, few, some, 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WARE adjectives that follow linking verb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ou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glis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lassroom,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rs always work har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ckey sits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ide of the classro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ng Jeezy put ou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lbum with some stro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de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ACTICE: YOUR TUR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are the nouns in these sentenc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hateesha, a world-class speller, won a difficult conte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tty Tarneshia always wears a pleasant smile on her fa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hefany’s soft voice often convinces Roberto to hurry to English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have three tardies, you will receive a 30-minute detention after school with Ms. Lemk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e will make you stamp raffle tickets and hole-punch class handou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S ARE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action word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in the sentence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y can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ange tense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(i.e.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sa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s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y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help other verbs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(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m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was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will be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’S THE DIFFEREN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and Cesar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ac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o the ball. The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ough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the rebound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appl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one another. Finally, Ces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natch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all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ribbl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w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mazing. His sp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ressive when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dribbl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e bal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s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areful.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e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ary of his opponents when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s guar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ction Verbs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Linking Verb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ACTICE: YOUR TUR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are the verbs in these sentenc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stity knows that she will be a great cheerleader because she practices hard and makes her body stro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yonce appeared in public wearing her wedding ring for the first t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itney, Kanye, Rihanna and TI all performed at the VMAs. They performed so well that they impressed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ourt sentenced T.I. to one year in jail. Police caught him with illegal firearms and mariju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NKING AND HELPING VERBS: A LI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lping verb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is, am, are, was, were, do, does, did, be, being, been, has, have, had, shall, will, should, would, may, might, must, can, coul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is, am, are, was, were, has been, have been, had been,  is being, are being, was being, will have been, etc.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c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become, becomes, became, has become, have become, had become, will become, will have become, etc.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ee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seemed, seeming, seems, has seemed, have seemed, had seemed, is seeming, are seeming, was seeming, were seeming, will see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MEMBER: A LINKING VERB CONNECTS A NOUN AND ADJ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rius seems happy when he gets her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hontiara was joyful about his test grad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rkia is dedicated to her classwork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oberto becomes quiet as soon as class begin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MEMBER: A HELPING VERB BUDDIES UP WITH ANOTHER VER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s. Lemke should have used sunscreen on Sunda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andra has done well on her unit exa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eaulah might be signing autographs for all of us one da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meone could have made 100% on the unit exa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2:38Z</dcterms:created>
  <dc:creator>Heather N. Lemke</dc:creator>
  <dc:description/>
  <dc:language>en-US</dc:language>
  <cp:lastModifiedBy>Carolynn</cp:lastModifiedBy>
  <dcterms:modified xsi:type="dcterms:W3CDTF">2008-09-23T21:22:30Z</dcterms:modified>
  <cp:revision>11</cp:revision>
  <dc:subject/>
  <dc:title>Nouns &amp;Pronouns</dc:title>
</cp:coreProperties>
</file>